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B63-AF14-47A3-BD1A-FD5BC533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9EC-8A5B-4B23-AA1D-47087676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E028-B855-4475-B321-5A6168E3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709-23C3-4E7F-867C-113C03DC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748-390F-410A-A1FD-4524E7D9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025-8727-49BA-AB89-3A1DCE06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F97-3565-4C1B-B774-D1119B5A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FF0-A301-4D63-B3B2-68D4BFBF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BA7-7E92-45F6-AF22-E8B4D6E0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7082-2610-487C-B4E9-CD49ABBC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765-AD26-45D4-8FE4-F965E452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DF7-2E1F-4E2A-916A-4F74A034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7EDA-4F91-4875-A22E-97DA81AC8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hyperlink" Target="http://www.freeplaymusic.com/" TargetMode="External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eb.mit.edu/invent/iow/fox.html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1066680"/>
            <a:ext cx="5410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aturally Colored Cotton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53704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ada Kornkras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 15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86200" y="29718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162920" y="3733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33520" y="3809880"/>
            <a:ext cx="1820880" cy="1447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533520"/>
            <a:ext cx="6172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Sally 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486400"/>
            <a:ext cx="5410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ul Thang 3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9718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7391520" y="160020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887560"/>
            <a:ext cx="9144000" cy="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Fox"/>
          <p:cNvPicPr/>
          <p:nvPr/>
        </p:nvPicPr>
        <p:blipFill>
          <a:blip r:embed="rId2"/>
          <a:srcRect l="2730" t="2939" r="73640" b="2939"/>
          <a:stretch/>
        </p:blipFill>
        <p:spPr>
          <a:xfrm>
            <a:off x="5029200" y="228600"/>
            <a:ext cx="2362320" cy="2438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887560"/>
            <a:ext cx="9144000" cy="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Fox"/>
          <p:cNvPicPr/>
          <p:nvPr/>
        </p:nvPicPr>
        <p:blipFill>
          <a:blip r:embed="rId3"/>
          <a:srcRect l="79528" t="0" r="0" b="3079"/>
          <a:stretch/>
        </p:blipFill>
        <p:spPr>
          <a:xfrm>
            <a:off x="7467480" y="0"/>
            <a:ext cx="1676520" cy="2390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887560"/>
            <a:ext cx="9144000" cy="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Fox"/>
          <p:cNvPicPr/>
          <p:nvPr/>
        </p:nvPicPr>
        <p:blipFill>
          <a:blip r:embed="rId4"/>
          <a:srcRect l="39703" t="15500" r="34374" b="7103"/>
          <a:stretch/>
        </p:blipFill>
        <p:spPr>
          <a:xfrm>
            <a:off x="1600200" y="1219320"/>
            <a:ext cx="327672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3618000"/>
            <a:ext cx="8305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04812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turally colored cot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pt 19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eb.mit.edu/invent/iow/fo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049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457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ly Fox invented naturally colored co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28600" y="9907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8229600" y="289548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Naturally colored cot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ly colored cotton is more flame resistant then regular white, bleached cot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ly cottons eliminate dyeing and finishing ste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waste as much as bleached cotton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ually brown, but now can be found in red or g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tton can be more difficult to spin then regular bleached cott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Sally F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ly Fox began her life as an inventor in 1982 in Davis, Califor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ly Fox receive a patent and 3 Plant Variety Protect Certificates for her brown cot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now grows red and green cot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 invention is so popular it had made 2 companies ----Vreseis, Ltd. And Natural Cotton Colo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lso made a unique set of yarn that can only be made from her naturally colored cot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3:54:40Z</dcterms:created>
  <dc:creator>install</dc:creator>
  <dc:description/>
  <dc:language>en-US</dc:language>
  <cp:lastModifiedBy>install</cp:lastModifiedBy>
  <dcterms:modified xsi:type="dcterms:W3CDTF">2011-09-26T13:56:36Z</dcterms:modified>
  <cp:revision>12</cp:revision>
  <dc:subject/>
  <dc:title>Slide 1</dc:title>
</cp:coreProperties>
</file>